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A1D-F2A6-4865-94DF-6712AF5C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67E-4C80-494F-A6A2-B53891F7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DE4-F509-44EB-8AFE-16668CB3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0DD-6896-45D6-855B-C8652B65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6A3-AF3B-4701-97C4-DA0490B1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194-67BB-4690-9ED5-F99F0E0D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832-E611-486C-8C7E-6CC88FC3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3D4-4BC3-4BDD-B508-8D14120C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7F9-1128-49C9-89E2-376D79FD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127-22F5-4F77-A108-3DCBB417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A46-614F-497A-9875-09894C3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4E5-077C-4DF6-AE30-5682D944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5FBD-6DD2-4B97-9987-5326A58ED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05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05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05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05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05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05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05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05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05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05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05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05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05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05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11:20:03Z</dcterms:created>
  <dc:creator>iñigo</dc:creator>
  <dc:description/>
  <dc:language>en-US</dc:language>
  <cp:lastModifiedBy>iñigo</cp:lastModifiedBy>
  <dcterms:modified xsi:type="dcterms:W3CDTF">2001-04-23T11:20:09Z</dcterms:modified>
  <cp:revision>1</cp:revision>
  <dc:subject/>
  <dc:title>Presentación de PowerPoint</dc:title>
</cp:coreProperties>
</file>